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539B-33B4-4861-BFCF-8E4561A41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DF1E-728F-4485-8F5D-E7790F1F5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6490-1661-4E05-86FF-DF131EC87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3FE2-2735-462B-9883-273440655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FD2A-D5A6-485F-80CC-AEE9C7BD0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5938-297F-4328-A8CB-19E433E3F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AFF2-9CD0-4BAB-B704-C58862B56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63BC-3C55-401A-916E-B3ED04FD2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7288-D952-4319-B996-AD10ED096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6D0E-4EA6-459E-A020-314818435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00C0-6EDD-445E-A3C8-67F4D568E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E8DC-68BC-4891-9DB6-9B19A2CE0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F03-6C04-4B04-9A40-CD6901282ADC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6237360"/>
            <a:ext cx="660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08000" y="6453360"/>
            <a:ext cx="27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e4c"/>
                </a:solidFill>
                <a:latin typeface="Arial"/>
              </a:rPr>
              <a:t>I&amp;M WG: MCC Expert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3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br>
              <a:rPr sz="3200"/>
            </a:br>
            <a:r>
              <a:rPr b="1" lang="en-US" sz="3200" spc="-1" strike="noStrike">
                <a:solidFill>
                  <a:srgbClr val="003e4c"/>
                </a:solidFill>
                <a:latin typeface="BTExtraBold"/>
              </a:rPr>
              <a:t>Liz Walsh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an overview for Communication Providers on the continuing Migration Command &amp; Control consultation following the conclusion of the Requirements Capture Phas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A938-6B5B-49E0-8065-FEEA5313D9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2448000" cy="31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06064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70828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35772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060640"/>
            <a:ext cx="2160720" cy="25207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Requirements Captur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CONCLUD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492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Ma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8108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an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724280"/>
            <a:ext cx="2232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2 multi-lateral workshops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7/01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4/03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Formal Consultation (04/04/06 – 26/04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in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27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74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97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2 - OPE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ul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98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3 - PLANN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8864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5321160"/>
            <a:ext cx="1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400536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93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e develop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Systems &amp; Measure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7036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Fault Diagnostics &amp; Service Management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0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Fallback Criteria &amp; Go/No Go criteria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4191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e4c"/>
                </a:solidFill>
                <a:latin typeface="Arial"/>
              </a:rPr>
              <a:t>Scheduling &amp; PEWs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724280"/>
            <a:ext cx="223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177840" indent="-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Approach: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multi-lateral workshops for each area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BT Proposal published post workshop for formal consultation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4508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Nov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E59A-044E-445A-9699-D3D084667F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Timelin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Scheduling &amp; PEWs: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8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2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5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llback Criteria &amp; Go/No Go Criteria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ult Diagnostics &amp; Service Management (during End Customer Migration)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4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10C2-EB56-4EA6-A49A-174606DED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To be confirmed: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War gaming Workshop – anticipated mid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ystems and Measurement – anticipated mid/late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cus on measuring individual migrations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F3B6-A5BD-4FA0-8C86-DF3A11BE9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5-15T09:47:37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5383022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UQ4 WALSHE R</vt:lpwstr>
  </property>
  <property fmtid="{D5CDD505-2E9C-101B-9397-08002B2CF9AE}" pid="5" name="_EmailSubject">
    <vt:lpwstr>Consult21: Implementation &amp; Migration WG - Migration Command &amp; Control (Scheduling &amp; PEWs Workshop)</vt:lpwstr>
  </property>
</Properties>
</file>