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move the slid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206-702F-4024-BAA9-DF4BEC3CE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7DBE-6642-4A74-BFBC-C740AFE134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3805-7DB7-4A1F-8F92-DFB8F2761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59D1-0E0A-43A9-85D5-8667F40FB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E617-6735-4844-8156-BA8037D31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094-ACFB-4C04-8F31-B7407FCC30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CE05-18C9-4D09-851C-758623A9F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1A6D-94F4-4527-A8FE-39283EC69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4382-6E89-4CF7-B119-AD0D63FDC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5F6-1DB4-41EC-B5B1-AE8EB418A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1C63-BBBC-40A2-936D-526954D1A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5BB7-B00B-48E7-A6DB-6BE9DB56B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CCBE-0926-4E1D-8E45-72DA63A2F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106-F8A1-495C-A72E-4A6FA05AA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B4A7-60A9-42C0-B21A-368F98105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49ED-F024-4130-8369-ABA6390AF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2194-A3EB-4E48-8578-9AD2381FB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EFCA-CED5-4BA4-AA02-A3CCDA6C8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4E21-D74E-42F4-9285-D485639456FD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51000" y="6324480"/>
            <a:ext cx="660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45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e4c"/>
                </a:solidFill>
                <a:latin typeface="Arial"/>
              </a:rPr>
              <a:t>I&amp;M W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174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Go/No GO &amp; Fallback Criteria</a:t>
            </a:r>
            <a:br>
              <a:rPr sz="3200"/>
            </a:br>
            <a:r>
              <a:rPr b="1" lang="en-GB" sz="3200" spc="-1" strike="noStrike">
                <a:solidFill>
                  <a:srgbClr val="99cc00"/>
                </a:solidFill>
                <a:latin typeface="BTExtraBold"/>
              </a:rPr>
              <a:t>Thoughts on principles</a:t>
            </a:r>
            <a:br>
              <a:rPr sz="3200"/>
            </a:br>
            <a:r>
              <a:rPr b="1" lang="en-GB" sz="3200" spc="-1" strike="noStrike">
                <a:solidFill>
                  <a:srgbClr val="003e4c"/>
                </a:solidFill>
                <a:latin typeface="BTExtraBold"/>
              </a:rPr>
              <a:t>Ian Pomford &amp; Alan Turner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some simple principles and thoughts by BT Wholesale for discussion with Communication Providers to facilitate the development by BTW of a proposal to define Go/No Go and Fallback criteria initially for Pathfinder and subsequently (subject to review) for Mass Migration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C917-F35D-45C7-B99C-A3C01A5ACA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anagement of the Go/No go &amp; fallback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National Network Management Centr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Unique Overview of the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Experienced in managing Network migration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ponsible for Serious Incident Managemen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4000" cy="2519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9640" y="112536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9CEB-90CE-407B-BB9C-43DF6F531C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TExtraBold"/>
              </a:rPr>
              <a:t>Prior to “On the Night” Migration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21CN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Quality Gate - Status of existing Network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hange Control/Planned Works Proces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Have been enacted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Identification of Critical Number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al Time Contingency Plann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 plac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1DF9-6216-4204-B09D-F2449CE2B1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549360"/>
            <a:ext cx="3166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Font typeface="BT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464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Prior to Go/No GO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nal SIT-Rep from NM teams - 20CN/21CN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Health of the Network/ External Events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ical number activity/Network Monitoring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Process in place and operational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Decision to Migrate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F22F-D00E-4EA6-A75A-B115C18CDB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30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 - Progress as at 23rd May 06</a:t>
            </a:r>
            <a:endParaRPr b="0" lang="en-US" sz="3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1562040"/>
            <a:ext cx="79408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Project scope agreed</a:t>
            </a: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Broadband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Voice services including ISDN2/30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Lead Designer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Resource agreed - Project team being assembl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Requirements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duct Initiation Document issue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Project plan in place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e4c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4c"/>
                </a:solidFill>
                <a:latin typeface="BTMedium"/>
              </a:rPr>
              <a:t>Timescales understood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0332-9422-4FC1-A879-1525B70C9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198144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676520"/>
            <a:ext cx="14479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20968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riteria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5029200"/>
            <a:ext cx="1143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Measure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952880"/>
            <a:ext cx="1752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209680"/>
            <a:ext cx="16761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2666880" y="2742840"/>
            <a:ext cx="1676520" cy="2133720"/>
          </a:xfrm>
          <a:prstGeom prst="can">
            <a:avLst>
              <a:gd name="adj" fmla="val 22467"/>
            </a:avLst>
          </a:prstGeom>
          <a:solidFill>
            <a:srgbClr val="ff9999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Fallback 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e4c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752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In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1752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e4c"/>
                </a:solidFill>
                <a:latin typeface="Arial"/>
              </a:rPr>
              <a:t>Output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1143000" cy="486000"/>
          </a:xfrm>
          <a:prstGeom prst="rightArrow">
            <a:avLst>
              <a:gd name="adj1" fmla="val 56861"/>
              <a:gd name="adj2" fmla="val 149604"/>
            </a:avLst>
          </a:pr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 rot="16200000">
            <a:off x="137160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40256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 rot="16200000">
            <a:off x="6324480" y="2360880"/>
            <a:ext cx="990360" cy="1905120"/>
          </a:xfrm>
          <a:custGeom>
            <a:avLst/>
            <a:gdLst>
              <a:gd name="textAreaLeft" fmla="*/ 329760 w 990360"/>
              <a:gd name="textAreaRight" fmla="*/ 848160 w 99036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6355440" y="3383640"/>
            <a:ext cx="928800" cy="1905120"/>
          </a:xfrm>
          <a:custGeom>
            <a:avLst/>
            <a:gdLst>
              <a:gd name="textAreaLeft" fmla="*/ 309600 w 928800"/>
              <a:gd name="textAreaRight" fmla="*/ 795600 w 928800"/>
              <a:gd name="textAreaTop" fmla="*/ 1405080 h 1905120"/>
              <a:gd name="textAreaBottom" fmla="*/ 16318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9031"/>
                </a:moveTo>
                <a:lnTo>
                  <a:pt x="15931" y="19031"/>
                </a:lnTo>
                <a:lnTo>
                  <a:pt x="15931" y="7200"/>
                </a:lnTo>
                <a:lnTo>
                  <a:pt x="12831" y="7200"/>
                </a:lnTo>
                <a:lnTo>
                  <a:pt x="1721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676520"/>
            <a:ext cx="914400" cy="3886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4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Fallback Governanc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5688-85E4-4B6F-BFDA-5284ABEFFC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5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riteria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Strong linkage to Go/No-Go criteria i.e. continued monitoring through transfer period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ssessment being made of current incident criteria for 20CN and 21CN Trials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riteria and thresholds are likely to be different during the transfer period - need to conduct gap analysi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Must accommodate ‘Graceful’ Fallback and Emergency Fallback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Input from requirements stack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FC72-76EB-4C70-A57B-E34C1132E3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7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Measures and monitoring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key measures?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at are the thresholds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Who produces the data and with what frequency?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overnance &amp; Decision Making 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Key players that make the fallback decision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vailability of the key players e.g. 24 x 7 rota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e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Channels and protocols for making the decision e.g. conference bridges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C2B7-6652-4BB3-9392-0FD4CAD1E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545320" cy="45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BTExtraBold"/>
              </a:rPr>
              <a:t>Constituent elements of Fallback Governance</a:t>
            </a:r>
            <a:endParaRPr b="1" lang="en-US" sz="28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89" name=""/>
          <p:cNvSpPr/>
          <p:nvPr/>
        </p:nvSpPr>
        <p:spPr>
          <a:xfrm>
            <a:off x="33660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ommunications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 Internal and External Communications - need to establish: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rmat/content of the communications that are sent out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list of recipients (distribution list)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requency and means of distribution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Agreed reference points for further information</a:t>
            </a:r>
            <a:r>
              <a:rPr b="0" lang="en-US" sz="2000" spc="-1" strike="noStrike">
                <a:solidFill>
                  <a:srgbClr val="003e4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Ground rules: </a:t>
            </a:r>
            <a:endParaRPr b="0" lang="en-US" sz="24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Use Business as usual processes either in part or in whole as much as possible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1500"/>
              </a:spcBef>
              <a:buClr>
                <a:srgbClr val="003366"/>
              </a:buClr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Explore systems opportunities to manage data through MCC especially in the area of measures and thresholds.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E9D3-6B35-4348-A40B-B8ED85653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cp:lastPrinted>2006-05-19T07:55:06Z</cp:lastPrinted>
  <dcterms:modified xsi:type="dcterms:W3CDTF">2006-05-23T12:29:12Z</dcterms:modified>
  <cp:revision>117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74965384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KR2 R</vt:lpwstr>
  </property>
  <property fmtid="{D5CDD505-2E9C-101B-9397-08002B2CF9AE}" pid="5" name="_EmailSubject">
    <vt:lpwstr>Consult21: Implementation &amp; Migration WG - Migration Command &amp; Control (Go/No Go &amp; fallback Criteria Workshop)</vt:lpwstr>
  </property>
</Properties>
</file>